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03665-295B-4D71-9CCA-310C527F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6DCD2-6C93-4C3C-BE5D-B2640E44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3846-BCB4-4959-AD89-EF2F67A9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842B9-B668-4CAA-BA4D-998B7683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674F-78C4-45A0-BE10-0BBB80A8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C5B6-9089-44B7-9695-C7E5E326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E088-FF8B-4509-905B-EB5EB91D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8FCE-9D46-48EF-8339-ED45D9D5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4C77-9B54-4B2C-9EEE-A30EB883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15D4-D5B6-499F-B0A8-177686F1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CE6E-A11F-4D33-AFDD-A0B97404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D8C2B-756E-4923-804F-42A2C8B9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8EE4-2103-46FD-8D96-1F6354EC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BB87-D14F-4222-9650-1D66CC05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9374-8067-4AA5-A3A1-F2DD8934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CC52-E02E-42A8-A2F5-59A57365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C2A8-20F9-45BB-9F02-BC57D45A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3CC45-4C98-48F0-9C4C-42B0757B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954D-C55D-463E-BE5A-583965E2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520B-6DE6-4A68-888B-6C67EB45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BFC35-8765-4F45-9443-B40F1664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EAA78-6A34-485F-A3B2-A11FAADC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58651-4C46-4DF4-9C43-DD8BAF15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9303C-0B2F-4FD8-9D43-E8F80D75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872B-B375-4EC9-BA01-8447D6E04CD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3F9E-FB67-4B09-A20C-D664A66BA43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644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88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.35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Всичко тръпне в красот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 любов цари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ивно еква песен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 любов цар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дома чезне облак лих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р владее и усмих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живот щастлив е, тих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 любов цар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777320"/>
            <a:ext cx="100821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дома, във дом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ърже времето лет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 любов цар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558360"/>
            <a:ext cx="1008216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И в най-беден скромен до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 любов цар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й се радостен псалом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любов цар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астие всякъде трепт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дост всичко ни шепт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оза в бурени цъфт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 любов цар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777320"/>
            <a:ext cx="100821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дома, във дом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ърже времето лет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 любов цар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6120"/>
            <a:ext cx="957744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Всичко радва се и сме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 любов цар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доволство там владе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 любов цар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дко пей планински ви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усмихва се безспир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инята безмерна шир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 любов цари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777320"/>
            <a:ext cx="100821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дома, във дом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ърже времето лет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 любов цар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7-25T08:18:09Z</dcterms:modified>
  <cp:revision>224</cp:revision>
  <dc:subject/>
  <dc:title>Slide 1</dc:title>
</cp:coreProperties>
</file>